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0176AB-89AB-4919-8E4F-A81A8CC1F85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74E-3D93-4671-9DEC-FD6DDDCF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29C9-4E2F-470A-AF57-6AA65E62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C26-8CF6-4C84-8481-E98C3FCD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439E-E19D-42DA-9B10-0C3FBB0F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8DC1-0CD6-4368-9E8B-918ED83F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FFE7-3CA6-4664-9C2D-C76ED96A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0566-4CC1-491E-B235-9EE6EC6C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D959-CF9E-4A99-AC96-D2B2C3BC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92EF-43C4-4F08-84DA-9328A716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3A62-F3A5-4902-8A2C-6C21C8B3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6E48-C67E-49B4-ABA1-85753055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7FFA-648A-4157-BF25-11CF94D9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D88E-4245-4ABD-ACAA-C374C0C6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86A1-254E-4F4A-B8BB-674E89CC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3A52-07AB-4709-BCE3-8354F62B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D051-C205-4945-B5C1-4BB7E437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6274-09FB-49AA-BAD9-9FDC7E0E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0294-54F9-4FA4-AA06-61689C7F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5BC5-4063-4AAE-A2B7-1300C5BE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D87-7A93-4CCE-A027-4250EB6E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601-B295-4EA6-B2F9-4F6A594F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22A1-C99B-4256-AB44-3826CE95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403-1124-41CF-93DB-6389FB44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F35-37CE-447C-8041-3865E174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551A-C844-49D2-A348-B596282611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C25F-B069-41CB-8BDE-A3C88F14A9DF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of posting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4932360" y="6308640"/>
            <a:ext cx="4211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5.3 and a pap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elta en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381880" cy="353196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CasellaDiTesto 1"/>
          <p:cNvSpPr/>
          <p:nvPr/>
        </p:nvSpPr>
        <p:spPr>
          <a:xfrm>
            <a:off x="3340800" y="167652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1   1    2     7   20  14 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50920" y="5805360"/>
            <a:ext cx="84247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n you compress the resulting integers w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riable-length prefix-free codes, as follows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0629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&gt; 0 and Binary length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9 represented as 000</a:t>
            </a:r>
            <a:r>
              <a:rPr b="0" lang="en-US" sz="2800" spc="-1" strike="noStrike">
                <a:solidFill>
                  <a:srgbClr val="00a000"/>
                </a:solidFill>
                <a:latin typeface="Lucida Sans"/>
              </a:rPr>
              <a:t>1001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code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f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 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1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(ie. factor of 2 from optimal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00" name="Object 4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5"/>
          <p:cNvSpPr/>
          <p:nvPr/>
        </p:nvSpPr>
        <p:spPr>
          <a:xfrm>
            <a:off x="2577960" y="2565360"/>
            <a:ext cx="31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Binary Length-1    Binary length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467640" y="5805360"/>
            <a:ext cx="68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ptimal for Pr(x) = 1/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nd i.i.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t is a prefix-free encoding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he following sequence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ded integers, reconstruct the original sequen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0001000001100110000011101100111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249084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Line 5"/>
          <p:cNvSpPr/>
          <p:nvPr/>
        </p:nvSpPr>
        <p:spPr>
          <a:xfrm flipV="1">
            <a:off x="363384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Line 6"/>
          <p:cNvSpPr/>
          <p:nvPr/>
        </p:nvSpPr>
        <p:spPr>
          <a:xfrm flipV="1">
            <a:off x="442908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Line 7"/>
          <p:cNvSpPr/>
          <p:nvPr/>
        </p:nvSpPr>
        <p:spPr>
          <a:xfrm flipV="1">
            <a:off x="702000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390320" y="484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2903400" y="491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4008240" y="491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5439600" y="4843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7230600" y="484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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1342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coding to reduce the length of the first fie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ful for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size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19 represented as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00101</a:t>
            </a:r>
            <a:r>
              <a:rPr b="0" lang="en-US" sz="2400" spc="-1" strike="noStrike">
                <a:solidFill>
                  <a:srgbClr val="333399"/>
                </a:solidFill>
                <a:latin typeface="Lucida Sans"/>
              </a:rPr>
              <a:t>10011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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coding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about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(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)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 2 bit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7" name="Object 2"/>
          <p:cNvGraphicFramePr/>
          <p:nvPr/>
        </p:nvGraphicFramePr>
        <p:xfrm>
          <a:off x="2071800" y="1025640"/>
          <a:ext cx="4246560" cy="28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025640"/>
                    <a:ext cx="424656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1094040" y="6093000"/>
            <a:ext cx="6533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ptimal for Pr(x) = 1/2x(log 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and i.i.d integ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321440" y="256536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Binary length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Variable-byt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6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sh to get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very fa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de)compr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byte-al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a binary representation of an integ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0s to front, to get a multiple-of-7 number of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m groups of 7-bits ea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to the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group the bit 0, and to the other groups the bit 1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(tagging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v=2</a:t>
            </a:r>
            <a:r>
              <a:rPr b="0" lang="en-US" sz="2400" spc="-1" strike="noStrike" baseline="30000">
                <a:solidFill>
                  <a:srgbClr val="00a000"/>
                </a:solidFill>
                <a:latin typeface="Lucida Sans"/>
              </a:rPr>
              <a:t>14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+1 </a:t>
            </a:r>
            <a:r>
              <a:rPr b="0" lang="en-US" sz="2400" spc="-1" strike="noStrike">
                <a:solidFill>
                  <a:srgbClr val="00a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a000"/>
                </a:solidFill>
                <a:latin typeface="Lucida Sans"/>
              </a:rPr>
              <a:t>binary(v)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= 10000000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99"/>
                </a:solidFill>
                <a:latin typeface="Lucida Sans"/>
              </a:rPr>
              <a:t>0000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0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We waste 1 bit per byte, and avg 4 for the first byt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ut it is a prefix code, and encodes also the value 0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cc0000"/>
                </a:solidFill>
                <a:uFillTx/>
                <a:latin typeface="Comic Sans MS"/>
              </a:rPr>
              <a:t>T-nibble</a:t>
            </a:r>
            <a:r>
              <a:rPr b="0" lang="it-IT" sz="2000" spc="-1" strike="noStrike">
                <a:solidFill>
                  <a:srgbClr val="cc0000"/>
                </a:solidFill>
                <a:latin typeface="Comic Sans MS"/>
              </a:rPr>
              <a:t>: We could design this code over t-bits, not just t=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" dur="2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7" dur="20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ForDelta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800" y="33822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5" name="Group 42"/>
          <p:cNvGrpSpPr/>
          <p:nvPr/>
        </p:nvGrpSpPr>
        <p:grpSpPr>
          <a:xfrm>
            <a:off x="396720" y="1714680"/>
            <a:ext cx="8204760" cy="2896560"/>
            <a:chOff x="396720" y="1714680"/>
            <a:chExt cx="8204760" cy="2896560"/>
          </a:xfrm>
        </p:grpSpPr>
        <p:sp>
          <p:nvSpPr>
            <p:cNvPr id="126" name="AutoShape 22"/>
            <p:cNvSpPr/>
            <p:nvPr/>
          </p:nvSpPr>
          <p:spPr>
            <a:xfrm rot="16200000">
              <a:off x="3624120" y="515160"/>
              <a:ext cx="609480" cy="685836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78560 h 6858360"/>
                <a:gd name="textAreaBottom" fmla="*/ 6679800 h 685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78"/>
                  </a:lnTo>
                  <a:cubicBezTo>
                    <a:pt x="10800" y="9878"/>
                    <a:pt x="5400" y="10778"/>
                    <a:pt x="0" y="10778"/>
                  </a:cubicBezTo>
                  <a:cubicBezTo>
                    <a:pt x="5400" y="10778"/>
                    <a:pt x="10800" y="11678"/>
                    <a:pt x="10800" y="1257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15667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1002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2633400" y="3106800"/>
              <a:ext cx="533160" cy="45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423396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1669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7004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47671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3006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5834160" y="310680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636768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7434360" y="310680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7967880" y="310680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9968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1033200" y="310680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69008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Rectangle 70"/>
            <p:cNvSpPr/>
            <p:nvPr/>
          </p:nvSpPr>
          <p:spPr>
            <a:xfrm>
              <a:off x="15667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Rectangle 71"/>
            <p:cNvSpPr/>
            <p:nvPr/>
          </p:nvSpPr>
          <p:spPr>
            <a:xfrm>
              <a:off x="21002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Rectangle 72"/>
            <p:cNvSpPr/>
            <p:nvPr/>
          </p:nvSpPr>
          <p:spPr>
            <a:xfrm>
              <a:off x="2633400" y="2496960"/>
              <a:ext cx="533160" cy="45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Rectangle 73"/>
            <p:cNvSpPr/>
            <p:nvPr/>
          </p:nvSpPr>
          <p:spPr>
            <a:xfrm>
              <a:off x="423396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Rectangle 74"/>
            <p:cNvSpPr/>
            <p:nvPr/>
          </p:nvSpPr>
          <p:spPr>
            <a:xfrm>
              <a:off x="31669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Rectangle 75"/>
            <p:cNvSpPr/>
            <p:nvPr/>
          </p:nvSpPr>
          <p:spPr>
            <a:xfrm>
              <a:off x="37004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Rectangle 76"/>
            <p:cNvSpPr/>
            <p:nvPr/>
          </p:nvSpPr>
          <p:spPr>
            <a:xfrm>
              <a:off x="47671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Rectangle 77"/>
            <p:cNvSpPr/>
            <p:nvPr/>
          </p:nvSpPr>
          <p:spPr>
            <a:xfrm>
              <a:off x="53006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Rectangle 78"/>
            <p:cNvSpPr/>
            <p:nvPr/>
          </p:nvSpPr>
          <p:spPr>
            <a:xfrm>
              <a:off x="5834160" y="249696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Rectangle 79"/>
            <p:cNvSpPr/>
            <p:nvPr/>
          </p:nvSpPr>
          <p:spPr>
            <a:xfrm>
              <a:off x="636768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Rectangle 82"/>
            <p:cNvSpPr/>
            <p:nvPr/>
          </p:nvSpPr>
          <p:spPr>
            <a:xfrm>
              <a:off x="49968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Rectangle 83"/>
            <p:cNvSpPr/>
            <p:nvPr/>
          </p:nvSpPr>
          <p:spPr>
            <a:xfrm>
              <a:off x="1033200" y="249696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Rectangle 84"/>
            <p:cNvSpPr/>
            <p:nvPr/>
          </p:nvSpPr>
          <p:spPr>
            <a:xfrm>
              <a:off x="69008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043280" y="4249800"/>
              <a:ext cx="50954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Lucida Sans"/>
                  <a:ea typeface="SimSun"/>
                </a:rPr>
                <a:t>a block of 128 numbers = 256 bits = 32 byte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Line 86"/>
            <p:cNvSpPr/>
            <p:nvPr/>
          </p:nvSpPr>
          <p:spPr>
            <a:xfrm flipH="1">
              <a:off x="11095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Line 92"/>
            <p:cNvSpPr/>
            <p:nvPr/>
          </p:nvSpPr>
          <p:spPr>
            <a:xfrm flipH="1">
              <a:off x="59101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Line 97"/>
            <p:cNvSpPr/>
            <p:nvPr/>
          </p:nvSpPr>
          <p:spPr>
            <a:xfrm>
              <a:off x="7429680" y="2133720"/>
              <a:ext cx="0" cy="175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Rettangolo 36"/>
            <p:cNvSpPr/>
            <p:nvPr/>
          </p:nvSpPr>
          <p:spPr>
            <a:xfrm>
              <a:off x="396720" y="1714680"/>
              <a:ext cx="8204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Use b (e.g. 2) bits to encode 128 numbers or create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Lucida Sans"/>
                </a:rPr>
                <a:t>exceptio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0" name="Rettangolo 38"/>
          <p:cNvSpPr/>
          <p:nvPr/>
        </p:nvSpPr>
        <p:spPr>
          <a:xfrm>
            <a:off x="123480" y="5300640"/>
            <a:ext cx="4912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ncode exceptions with value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2</a:t>
            </a:r>
            <a:r>
              <a:rPr b="1" lang="it-IT" sz="2000" spc="-1" strike="noStrike" baseline="30000">
                <a:solidFill>
                  <a:srgbClr val="ff0000"/>
                </a:solidFill>
                <a:latin typeface="Lucida Sans"/>
              </a:rPr>
              <a:t>b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Rettangolo 39"/>
          <p:cNvSpPr/>
          <p:nvPr/>
        </p:nvSpPr>
        <p:spPr>
          <a:xfrm>
            <a:off x="136080" y="5872320"/>
            <a:ext cx="6208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hoose b to encode 90% values, or trade-off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waste more bits, 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more excep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Rettangolo 37"/>
          <p:cNvSpPr/>
          <p:nvPr/>
        </p:nvSpPr>
        <p:spPr>
          <a:xfrm>
            <a:off x="184320" y="4772160"/>
            <a:ext cx="61675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ranslate data: [base, base +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-2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[0,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-2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3" name="Picture 11" descr=""/>
          <p:cNvPicPr/>
          <p:nvPr/>
        </p:nvPicPr>
        <p:blipFill>
          <a:blip r:embed="rId1"/>
          <a:stretch/>
        </p:blipFill>
        <p:spPr>
          <a:xfrm>
            <a:off x="6215040" y="4214880"/>
            <a:ext cx="29289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5-10-20T08:40:19Z</dcterms:modified>
  <cp:revision>1203</cp:revision>
  <dc:subject/>
  <dc:title>Web Algorithmics</dc:title>
</cp:coreProperties>
</file>